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0120-7127-4D51-92A5-41B56D453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C008-1CAF-4216-8A61-23382D2A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0D86-5FFA-4DF0-A899-1751A458D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3E12-5AE8-4F7A-8519-7624F2325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341E-0D4D-4742-910F-2483EC89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77C1-616A-42A9-943A-3F349F89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F6DB-3818-48B4-B495-90F25BA7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4F29-5B6A-44E9-A437-455D3D90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DFD9-5C86-4EC6-A8C6-D8F18988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CE60-69B3-4831-9A37-1B635828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A846-2FAF-406E-8C8D-DE869272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35DD-C441-4CE1-9A7B-A2BCBE41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8E18-7EEE-4B6A-B421-9103790DA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stoms and Traditions in German Speaking Countries: F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Noah Tay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, Noah Taylor, wrote this 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germanfoods.org/consumer/facts/guidetoalcoholicbeverages.cf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germanfoods.org/consumer/facts/guidetobreads.cf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germanfoods.org/consumer/facts/guidetosausages.cf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otos are from the same webs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rman Bever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around 5,000 different types of German Be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er is the most popular adult bever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er is drunk with meals in Germ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ans also like to drink coffee, tea, juices, and mineral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Content Placeholder 5" descr="PPT image 1.jpg"/>
          <p:cNvPicPr/>
          <p:nvPr/>
        </p:nvPicPr>
        <p:blipFill>
          <a:blip r:embed="rId1"/>
          <a:srcRect l="0" t="-6005" r="0" b="-6005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German bread is made of rye fl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at flour is sometimes added to obtain a fluffier tex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seeds are added to enhance the taste of the b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d is usually eaten as an open-faced sandwich with cheese, ham, and bu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i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re are five different categories of German cheese: hard, semi-hard, semi-soft, soft, and fresh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re are 600 types of German chees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ver 60% of the 600 cheeses come from Bava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tter is strictly regulat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tter must undergo tests regarding taste, smell, texture, water distribution and spreadabilit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Content Placeholder 7" descr="PPT image 2.jpg"/>
          <p:cNvPicPr/>
          <p:nvPr/>
        </p:nvPicPr>
        <p:blipFill>
          <a:blip r:embed="rId1"/>
          <a:srcRect l="-29139" t="0" r="-29139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ts and Saus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around 1500 different kinds of German sau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popular type of sausages are scalded or boiled sau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verage German eats about 67 lbs/26 Kg of meat products every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6" descr="PPT image 3.jpg"/>
          <p:cNvPicPr/>
          <p:nvPr/>
        </p:nvPicPr>
        <p:blipFill>
          <a:blip r:embed="rId1"/>
          <a:srcRect l="0" t="-22240" r="0" b="-2224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ta and Potato Produ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ätzle is the most common form of pa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literally translated as "little sparrows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ato pancakes are popular in Germany; they are occasionally served with applesau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se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ummi Bear was invented in Germany in 192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 gingerbread is made with many unique ingredients including hazelnuts and or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ingerbread-makers guild was formed in Nurnberg in 164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s like to eat many other deserts including cheesecake, marzipan, and Black Forest C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pounds of meat does the average German eat each y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5090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5090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5090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as the Gummi Bear inv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5090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5090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5090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01:42:51Z</dcterms:created>
  <dc:creator>SCSadmin</dc:creator>
  <dc:description/>
  <dc:language>en-US</dc:language>
  <cp:lastModifiedBy>Noah Taylor</cp:lastModifiedBy>
  <dcterms:modified xsi:type="dcterms:W3CDTF">2012-01-06T02:28:14Z</dcterms:modified>
  <cp:revision>10</cp:revision>
  <dc:subject/>
  <dc:title>Customs and Traditions in German Speaking Countries</dc:title>
</cp:coreProperties>
</file>